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7628-0A15-4186-9651-EA07990D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6E37-104B-47A0-9B65-DA12416D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2A8F-A6E9-444A-BBAC-0CCE90077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9B17-3E77-4C8A-B191-67A195D52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163E-8E43-4E05-A81F-7C7B7410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5E75-579D-4EA7-A55F-BF2B0DB2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9665-EB5E-4CAC-9EF8-A006773F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865B-D0D0-4AA9-A292-CB1DC9F7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625A-B9D2-455D-8E21-0BBB3EC4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AE06-2770-4D02-81B9-97049D1F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8AAB-2521-4B81-AD91-82D1CE86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D007-7B62-4AA6-AE42-93A914B6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6CDD-F027-46B6-A74F-EF654E1C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74DE-D1EF-400C-849B-4ADE3BD2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12F7-44AB-4DB2-8612-66D5CB81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AEA6-1BF8-4B20-B7A3-32D0DEE1C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1A2D-96EC-4956-9C2E-0972F8903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203D-9093-4C33-91BC-9C3DFC60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938A-421C-4DD8-8A77-3AC73585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7D39-A083-459F-B4D5-F986A19B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A6E3-8AB6-4828-BC29-F0DEA126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95B5-7F01-443B-AC35-5BB712E2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B8B5-7442-491D-AF24-FFD95C67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5473-36C8-46DF-874F-5F050322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76FE-E9C2-4C29-B74C-65E8890B2A68}" type="slidenum">
              <a:rPr b="0" lang="ar-LB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3566-3A2A-4CF4-B017-D4593BF9681F}" type="slidenum">
              <a:rPr b="0" lang="ar-LB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32000" y="162864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 u="sng">
                <a:solidFill>
                  <a:srgbClr val="ffffff"/>
                </a:solidFill>
                <a:uFillTx/>
                <a:latin typeface="Times New Roman"/>
                <a:cs typeface="AF_Diwani"/>
              </a:rPr>
              <a:t>نشيد الختام:</a:t>
            </a:r>
            <a:br>
              <a:rPr sz="10600"/>
            </a:br>
            <a:br>
              <a:rPr sz="9600"/>
            </a:br>
            <a:r>
              <a:rPr b="0" lang="ar-SA" sz="6600" spc="-1" strike="noStrike">
                <a:solidFill>
                  <a:srgbClr val="ffffff"/>
                </a:solidFill>
                <a:latin typeface="Tahoma"/>
                <a:cs typeface="Ruqah2 Normal"/>
              </a:rPr>
              <a:t>هل يستطيع الرب بي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ل يستطيعُ الربُّ بي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 يصنعَ العجائبَ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إن طلبتُ تكريسي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ل يستجيبُ الطلبَ؟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380880"/>
            <a:ext cx="9144000" cy="79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عم نعم، نعم يقولُ ربُّنا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قدَّسوا للعملِ 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غداً سأعملُ بكم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وسْطِكم عجائبي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ل يستطيعُ الربُّ أن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قدّسَ ذا الجسدَ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ع ضعفِهِ وإثمِهِ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ه يحلُّ للمدى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80880"/>
            <a:ext cx="9144000" cy="79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عم نعم، نعم يقولُ ربُّنا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قدَّسوا للعملِ 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غداً سأعملُ بكم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وسْطِكُم عجائبي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ل يستطيعُ الربُّ أن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شغِّلَ مواهبي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قدِّساً عواطفي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مجدِ مَن أحبَّني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80880"/>
            <a:ext cx="9144000" cy="79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عم نعم، نعم يقولُ ربُّنا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قدَّسوا للعملِ 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غداً سأعملُ بكم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وسْطِكُم عجائبي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ل يستطيعُ الربُّ أن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باركَ في خدمَتي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كرِّساً لمجدِهِ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لّي له بجُملتي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380880"/>
            <a:ext cx="9144000" cy="79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عم نعم، نعم يقولُ ربُّنا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قدَّسوا للعملِ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غداً سأعملُ بكم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وسْطِكُم عجائبي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39:50Z</dcterms:created>
  <dc:creator>Charbel Azar</dc:creator>
  <dc:description/>
  <dc:language>en-US</dc:language>
  <cp:lastModifiedBy>Charbel Azar</cp:lastModifiedBy>
  <dcterms:modified xsi:type="dcterms:W3CDTF">2002-11-18T09:53:44Z</dcterms:modified>
  <cp:revision>3</cp:revision>
  <dc:subject/>
  <dc:title>PowerPoint Presentation</dc:title>
</cp:coreProperties>
</file>